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5F9-FBF6-4ADC-9A8B-9AC2A9CD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1AC-C634-4464-B59E-495116FF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14A-63E8-4D11-9F81-4BA6795D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AFF-FC23-47D7-9805-99FE0352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A1C6-CD00-4EB4-8342-FB938ABC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DDA-AD3E-4952-967D-68789A21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A4E-8FF4-44F7-96D6-B933A67D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699-B0AC-4227-90F4-58C1047B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D83-AD7E-48E0-B678-FCDD210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8CD-F954-4BE2-AEA8-C10B3805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C90-7492-41CD-A7B2-21AFC329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B30-E48A-4924-8EAD-0254E450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1097-1E0D-48A7-B064-6094568694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38040" y="1122480"/>
            <a:ext cx="742932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Arial"/>
              </a:rPr>
              <a:t>Натиск-2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38040" y="3601800"/>
            <a:ext cx="74293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ЛОЖЕНИЯ ПО РЕ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9906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ПО анализа журналов аудита ИБ,                                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ПО аутентификации и управления пользователям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6600" y="1308240"/>
          <a:ext cx="9264600" cy="3504960"/>
        </p:xfrm>
        <a:graphic>
          <a:graphicData uri="http://schemas.openxmlformats.org/drawingml/2006/table">
            <a:tbl>
              <a:tblPr/>
              <a:tblGrid>
                <a:gridCol w="5524560"/>
                <a:gridCol w="3740040"/>
              </a:tblGrid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ор данных из журналов собы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zuh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astic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системы признаков ИБ и фильтрация событий согласно данным призна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критических событий, опове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учетных записей пользователей, ведение прав пользователей на доступ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3"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IPA (389 Directory Serv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IT’s Kerberos 5, DogTag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ализаци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амках работы 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ование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A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нократная аутентификация пользо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параметров АРМ разработч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Объект 2"/>
          <p:cNvSpPr/>
          <p:nvPr/>
        </p:nvSpPr>
        <p:spPr>
          <a:xfrm>
            <a:off x="374760" y="4938840"/>
            <a:ext cx="921852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1.01.2020 Исполнитель определяет перечень средств для анализа электронных журналов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бытий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удита информационной безопас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1.01.2020 Исполнитель разрабатывает формат для экспорта информации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 критических событ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1.01.2020 Исполнитель разрабатывает описание технологии однократной аутентификации пользовател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2664-D75C-482A-AC38-968B63222B49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4680" y="141120"/>
            <a:ext cx="921564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выявления аномалий сетевых взаимодействий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7240" y="1273320"/>
          <a:ext cx="8544240" cy="2590560"/>
        </p:xfrm>
        <a:graphic>
          <a:graphicData uri="http://schemas.openxmlformats.org/drawingml/2006/table">
            <a:tbl>
              <a:tblPr/>
              <a:tblGrid>
                <a:gridCol w="5027760"/>
                <a:gridCol w="3516480"/>
              </a:tblGrid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ь сетевого траф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icat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rt, Molo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ройка отслеживаемых параметров траф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перечня признаков аномали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тевом трафике и выявление анома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 фрагментов сетевого траф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resh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77" name="Объект 2"/>
          <p:cNvSpPr/>
          <p:nvPr/>
        </p:nvSpPr>
        <p:spPr>
          <a:xfrm>
            <a:off x="681120" y="4167360"/>
            <a:ext cx="85741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1.08.2019 Исполнитель разрабатывает формат признаков аномалий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етевого траф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перечень отслеживаемых параметров сетевого траф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0.11.2019 Исполнитель разрабатывает перечень средств выявления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номалий сетевых взаимодействий, с учетом их производи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4034-5824-426B-91C9-F73FA82E379E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0760" y="128520"/>
            <a:ext cx="8543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контроля целостности программного код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68280" y="1233360"/>
          <a:ext cx="9188640" cy="3416400"/>
        </p:xfrm>
        <a:graphic>
          <a:graphicData uri="http://schemas.openxmlformats.org/drawingml/2006/table">
            <a:tbl>
              <a:tblPr/>
              <a:tblGrid>
                <a:gridCol w="4984920"/>
                <a:gridCol w="4203720"/>
              </a:tblGrid>
              <a:tr h="41400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70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целостности кода ОС, СПО, О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SEC H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2444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целостности кода микропрограммного обеспечения аппаратных компонентов компьютеров (материнских плат, сетевых карт, графических карт, жестких дис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уется применение ПО производителей ТС, используемых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аб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9124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целостности данных передаваемых через К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ализуется с использованием научно-технического задела, получаемого в ходе выполнения ОКР «Камертон»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апрель 2019 – январь 20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1" name="Объект 2"/>
          <p:cNvSpPr/>
          <p:nvPr/>
        </p:nvSpPr>
        <p:spPr>
          <a:xfrm>
            <a:off x="384120" y="4809960"/>
            <a:ext cx="9172800" cy="16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1.08.2019 Исполнитель разрабатывает перечень ТС из состава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О ПТК «Натиск-2», на которых будет осуществляться контроль целостности программного к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1.08.2019 Исполнитель разрабатывает перечень методов и средств контроля целостности программного к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9E21-8B81-40EE-89C5-89830D4F7CF8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0760" y="139320"/>
            <a:ext cx="854388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анализа СпПС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76200" y="888840"/>
          <a:ext cx="9180720" cy="5507280"/>
        </p:xfrm>
        <a:graphic>
          <a:graphicData uri="http://schemas.openxmlformats.org/drawingml/2006/table">
            <a:tbl>
              <a:tblPr/>
              <a:tblGrid>
                <a:gridCol w="5308560"/>
                <a:gridCol w="3872160"/>
              </a:tblGrid>
              <a:tr h="3682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169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зассемблирование кода СпПС, удаленная отладка кода СпПС на различных платформах, декомпилирование кода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A Pr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плагин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G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169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ставление программного интерфейса для создания расширений (плагинов) специального анализа кода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трафика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och + Elastic 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атическое выявление характеристик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ckoo Sand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69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атизированное создание защищенной среды исполнения кода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ckoo Sandbo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Mware vCSA Enterprise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ckoo Sandbo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Box + Vmclo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применения облачных антивирусных технологий для выявления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3"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Hive, Cortex, MISP с возможностью получения индикаторов компрометаций от других CERT          во внешнем кон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атическая классификацию СпПС на основ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х характери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реестра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EBCC-4285-4916-BA30-3758A53066D2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0760" y="185400"/>
            <a:ext cx="8543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анализа СпПС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0760" y="1218960"/>
            <a:ext cx="8543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перечень средств              анализа СпП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структуру реестра СпПС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(реестр СпПС должен обеспечивать хранение и предоставление данных                                      по образцам кода СпПС, файлам анализа кода СпПС, комментариям в виде документов текстового формата, снимкам зараженных виртуальных сред, образам зараженных дисков, образам «склеенных» сессий трафика, описанию методов разработки СпПС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перечень характеристик СпПС для проведения автоматической классификации                                   создания реестра СпП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e79"/>
                </a:solidFill>
                <a:latin typeface="Calibri"/>
              </a:rPr>
              <a:t>для реализации ключевых архитектурных решений СПО анализа СпПС Исполнитель планирует привлекать специалистов компании «Перспективный мониторинг» (входит в группу компаний «Инфотекс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E99A-D982-438D-8D8F-773604DF0887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9840" y="144360"/>
            <a:ext cx="9269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печати и вывода данных на МН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0760" y="1582560"/>
            <a:ext cx="8543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выходных документов на основе шаблон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паспортов СпПС в едином форма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нтрализованный вывод документов и паспортов СпПС на печ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нтрализованный вывод документов и паспортов СпПС на М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заданиями вывода на печать и М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ческий контроль успешности выполнения операции вывода на МНИ при завершении зада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ческий учет операций печати и вывода данных на М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e79"/>
                </a:solidFill>
                <a:latin typeface="Calibri"/>
              </a:rPr>
              <a:t>для реализации СПО печати и вывода данных на МНИ Исполнитель планирует использовать научно-технический задел, полученный в ходе выполнения ОКР «Гадалка-М», </a:t>
            </a:r>
            <a:br>
              <a:rPr sz="2200"/>
            </a:br>
            <a:r>
              <a:rPr b="0" i="1" lang="ru-RU" sz="2200" spc="-1" strike="noStrike">
                <a:solidFill>
                  <a:srgbClr val="1f4e79"/>
                </a:solidFill>
                <a:latin typeface="Calibri"/>
              </a:rPr>
              <a:t>ОКР «Моралист», аванпроекта «Гамбит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3C99-9CA5-456D-BD79-DC37A9E7F880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91880"/>
            <a:ext cx="990612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информационно-аналитического портал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554040" y="5210280"/>
            <a:ext cx="87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для реализации единого портала мониторинга и управления работой СПО Исполнитель предлагает включить, по согласованию с Заказчиком, в состав СПО информационно-аналитического портала соответствующие пользовательские интерфейсы прочих СПО ПТК «Натиск-2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758880" y="1271520"/>
            <a:ext cx="8313840" cy="3841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49A7-EF0E-4FE0-80AA-F1AC9793341C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760" y="128520"/>
            <a:ext cx="854388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информационного обмен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68400" y="1338120"/>
            <a:ext cx="7983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дение метасхемы предметной области разработки СпПС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описания информ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порт и экспорт информации в виде файлов формата обмена данными для обеспечени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действи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виртуальными компьютерами Заказч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ато-логический контроль информ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для реализации СПО информационного обмена Исполнитель</a:t>
            </a:r>
            <a:r>
              <a:rPr b="0" i="1" lang="en-US" sz="26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планирует использовать научно-технических задел по обработке паспортов специальных материалов, полученный в ходе выполнения НИОКР</a:t>
            </a:r>
            <a:r>
              <a:rPr b="0" i="1" lang="en-US" sz="26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«Гадалка-М», «Реалист»,</a:t>
            </a:r>
            <a:r>
              <a:rPr b="0" i="1" lang="en-US" sz="26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«Наставник», аванпроекта «Енот» и д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333A-32FA-4A23-8B7E-B2A6BC72B091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91880"/>
            <a:ext cx="9906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распределенного индексирования данных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8680" y="1144440"/>
            <a:ext cx="854388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ексирование данных в таблицах СУБД в режимах полного индексирования данных БД и индексирования изменений (обновлений, удалений) данных в БД, в т.ч. BLOB-полей, содержащих HTML-документы, DOC-документы и PDF-документы, а также числовых, строковых (текстовых) полей и полей, содержащих дату и врем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ексирование файлов из каталогов файловой системы, с учетом заданной струк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ексирование электронных журналов событий аудита информационной безопасности, в т.ч. поступивших от СПО анализа электронных журналов событий аудита информационной без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ексирование данных реестра СпП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зированная модификация поисковых индексов, в том числе: дополнение и обновление индексов, очистка индек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пление с дополнением и обновлением данных в хранилище по мере их индексирования в режиме, близком к режиму «реального времен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анение данных в нереляционном хранилищ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для реализации СПО распределенного индексирования данных Исполнитель планирует использовать научно-технических задел, полученный в ходе выполнения НИОКР</a:t>
            </a:r>
            <a:r>
              <a:rPr b="0" i="1" lang="en-US" sz="20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в интересах ФГКУ «В</a:t>
            </a:r>
            <a:r>
              <a:rPr b="0" i="1" lang="en-US" sz="2000" spc="-1" strike="noStrike">
                <a:solidFill>
                  <a:srgbClr val="1f4e79"/>
                </a:solidFill>
                <a:latin typeface="Calibri"/>
              </a:rPr>
              <a:t>/</a:t>
            </a: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ч 71330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3B9A-1F66-4B94-96EB-6F551158CDE3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0760" y="173160"/>
            <a:ext cx="854388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поиска данны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79520" y="1186920"/>
            <a:ext cx="898848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ение полнотекстового поиска по ключевым словам, позволяющего осуществлять отбор проиндексированных данных (документ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ение расширенного поиска, позволяющего осуществлять отбор документов по значениям их атрибу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текстовый поиск по ключевым слов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сортировкой (ранжированием) результатов поиска доку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равление искажений поискового запроса пользователя вследствие неправильной раскладки клави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ку орфографии перед выполнением поиска документов и выдача предложений по корректировке поискового запр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 прикладного программного интерфейса поиска да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бработки результатов отб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для реализации СПО поиска данных Исполнитель планирует использовать научно-технических задел, полученный в ходе выполнения НИОКР </a:t>
            </a:r>
            <a:br>
              <a:rPr sz="2000"/>
            </a:b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в интересах ФГКУ «В</a:t>
            </a:r>
            <a:r>
              <a:rPr b="0" i="1" lang="en-US" sz="2000" spc="-1" strike="noStrike">
                <a:solidFill>
                  <a:srgbClr val="1f4e79"/>
                </a:solidFill>
                <a:latin typeface="Calibri"/>
              </a:rPr>
              <a:t>/</a:t>
            </a: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ч 71330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B062-8E0F-4BB2-9DC1-4E84E5260E63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0760" y="1652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труктурная схема ОО ПТК Натиск-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7795-30D5-4C33-A560-B5209C900DE9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-1440" y="1606680"/>
            <a:ext cx="9907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73160"/>
            <a:ext cx="990612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информационно-аналитического портал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7440" y="1454040"/>
            <a:ext cx="9105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равление настройками инфраструктурных элементов ПТ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втоматизация работы пользователя с элементами СПО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О, используемых в работ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зов функций СПО и ОПО из единого пользовательского интерфей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иторинг работы СПО и ОП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СПО информационно-аналитического портала Исполнитель планирует создавать по технологии «тонкого клиента», с учетом согласованных на этапе ЭТП экранных форм, а также возможностей </a:t>
            </a:r>
            <a:r>
              <a:rPr b="0" i="1" lang="en-US" sz="2600" spc="-1" strike="noStrike">
                <a:solidFill>
                  <a:srgbClr val="1f4e79"/>
                </a:solidFill>
                <a:latin typeface="Calibri"/>
              </a:rPr>
              <a:t>API, </a:t>
            </a: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предоставляемых базовыми ОП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93AB-4494-4BA5-81A9-8D3A1E72CA31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6360" y="202680"/>
            <a:ext cx="854388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Основные этапы выполнения ОКР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1120" y="1825560"/>
          <a:ext cx="8543880" cy="3476520"/>
        </p:xfrm>
        <a:graphic>
          <a:graphicData uri="http://schemas.openxmlformats.org/drawingml/2006/table">
            <a:tbl>
              <a:tblPr/>
              <a:tblGrid>
                <a:gridCol w="5476680"/>
                <a:gridCol w="3067200"/>
              </a:tblGrid>
              <a:tr h="5428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выпол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781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Эскизно-техническое проектир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4.2019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5.07.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Разработка РКД, изготовление изделия, проведение МТ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7.2020 – 19.05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777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Проведение государственных испытаний и корректировка РК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5.2022 – 15.07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A10B-3647-49AD-A39E-72F4E2B1CF3F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27612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Этап 1. Эскизно-техническое проектирова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1120" y="1708200"/>
          <a:ext cx="8543880" cy="4635360"/>
        </p:xfrm>
        <a:graphic>
          <a:graphicData uri="http://schemas.openxmlformats.org/drawingml/2006/table">
            <a:tbl>
              <a:tblPr/>
              <a:tblGrid>
                <a:gridCol w="6342120"/>
                <a:gridCol w="2201760"/>
              </a:tblGrid>
              <a:tr h="39240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0872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редпроектного обследования каждого объекта размещения подкомплексов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06.2019 - 30.08.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638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ставление на согласование в ФГКУ «В/ч 71330» отчетов с результатами предпроектного обследования каждого из объектов раз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9.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4196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чее совещание для обсуждения отчетов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результатами предпроектного обсле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9.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0872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чее совещание для обсуждения пояснительной записки к эскизно-техническому проекту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5.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976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ка первого этапа ОК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7.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2346-4D67-4D60-A16F-D00609DA2F16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0760" y="1364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Предпроектное обследование каждого объекта размещения ОО ПТК «Натиск-2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45960" y="1368360"/>
          <a:ext cx="9202680" cy="4449960"/>
        </p:xfrm>
        <a:graphic>
          <a:graphicData uri="http://schemas.openxmlformats.org/drawingml/2006/table">
            <a:tbl>
              <a:tblPr/>
              <a:tblGrid>
                <a:gridCol w="6710400"/>
                <a:gridCol w="2492280"/>
              </a:tblGrid>
              <a:tr h="4906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этап предпроектного обсле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86724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М», «Натиск-2-Ц», «Натиск-2-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6"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06.2019 - 30.08.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906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З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СП», «Натиск-2-П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Т», «Натиск-2-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Х», «Натиск-2-Ш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ик 4"/>
          <p:cNvSpPr/>
          <p:nvPr/>
        </p:nvSpPr>
        <p:spPr>
          <a:xfrm>
            <a:off x="376200" y="5996160"/>
            <a:ext cx="91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требует согласования с учетом графика командировок и планов отпусков Заказчика, в том числе на удаленных объек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AEBA-880B-4DEE-A626-6E0CF4F8A779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0760" y="202680"/>
            <a:ext cx="854388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Этап 2. Разработка РКД, изготовление изделия, проведение МТП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31640" y="1368360"/>
          <a:ext cx="9074160" cy="5133960"/>
        </p:xfrm>
        <a:graphic>
          <a:graphicData uri="http://schemas.openxmlformats.org/drawingml/2006/table">
            <a:tbl>
              <a:tblPr/>
              <a:tblGrid>
                <a:gridCol w="6735960"/>
                <a:gridCol w="2338200"/>
              </a:tblGrid>
              <a:tr h="524520"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РКД на ОО ПТК «Натиск-2», изготовление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12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45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чее совещание по обсуждению РКД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12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программы и методики ПИ и МТП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6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чее совещание по обсуждению программы и методики ПИ и МТП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1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45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домление о готовности к проведению 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2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03.2022 - 12.05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27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ка второго этапа ОК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05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5066-CFB6-4EAE-9E9B-F5BE25819E64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29960"/>
            <a:ext cx="99061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роведение ПИ и МТП ОО ПТК «Натиск-2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9520" y="1241280"/>
          <a:ext cx="9026280" cy="4067280"/>
        </p:xfrm>
        <a:graphic>
          <a:graphicData uri="http://schemas.openxmlformats.org/drawingml/2006/table">
            <a:tbl>
              <a:tblPr/>
              <a:tblGrid>
                <a:gridCol w="6718320"/>
                <a:gridCol w="2307960"/>
              </a:tblGrid>
              <a:tr h="534960"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этап проведения ПИ и МТП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223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-З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6"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03.2022 - 12.05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23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-СП», «Натиск-2-П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 и МТП ОО ПТК «Натиск-2-Т», «Натиск-2-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-Х», «Натиск-2-Ш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-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7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-М», «Натиск-2-Ц», «Натиск-2-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3" name="Прямоугольник 4"/>
          <p:cNvSpPr/>
          <p:nvPr/>
        </p:nvSpPr>
        <p:spPr>
          <a:xfrm>
            <a:off x="487440" y="5643720"/>
            <a:ext cx="90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требует согласования с учетом графика командировок и планов отпусков Заказчика, в том числе на удаленных объек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6E4C-F897-4502-858F-A81E2B79628E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Этап 3. Проведение государственных испытаний и корректировка РКД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1120" y="2165400"/>
          <a:ext cx="8543880" cy="2898720"/>
        </p:xfrm>
        <a:graphic>
          <a:graphicData uri="http://schemas.openxmlformats.org/drawingml/2006/table">
            <a:tbl>
              <a:tblPr/>
              <a:tblGrid>
                <a:gridCol w="5881680"/>
                <a:gridCol w="2662200"/>
              </a:tblGrid>
              <a:tr h="603360"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 выпол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872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5.2022 - 01.07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033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тировка РКД на ОО ПТК «Натиск-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7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04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ка третьего этапа ОК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7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85BF-0492-4E4F-BB14-20468D419640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роведение ГИ ОО ПТК «Натиск-2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1120" y="1609560"/>
          <a:ext cx="8543880" cy="3686400"/>
        </p:xfrm>
        <a:graphic>
          <a:graphicData uri="http://schemas.openxmlformats.org/drawingml/2006/table">
            <a:tbl>
              <a:tblPr/>
              <a:tblGrid>
                <a:gridCol w="5992560"/>
                <a:gridCol w="2551320"/>
              </a:tblGrid>
              <a:tr h="496800"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этап 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97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З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6"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5.2022 - 01.07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968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СП», «Натиск-2-П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Т», «Натиск-2-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Х», «Натиск-2-Ш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М», «Натиск-2-Ц», «Натиск-2-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Прямоугольник 2"/>
          <p:cNvSpPr/>
          <p:nvPr/>
        </p:nvSpPr>
        <p:spPr>
          <a:xfrm>
            <a:off x="700200" y="5618160"/>
            <a:ext cx="85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требует согласования с учетом графика командировок и планов отпусков Заказчика, в том числе на удаленных объект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CDB6-1752-48A3-ABE6-9D23DC4AA30C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12528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Задачи ОО ПТК Натиск-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0840" y="1220400"/>
            <a:ext cx="913608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здание инфраструктуры для разработчиков СпП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рабочие места, программное окружение), в том числе с учетом ее распределенности        и с организацией к ней квалифицированного доступ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я виртуальной среды и создание инфраструктуры для построения виртуальных сегментов се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зация ведения шаблонов виртуальных машин (ОС, СУБД, сервера приложений, службы и сервисы, программное окружение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дение реестра узлов специальной транспортной инфраструктуры, перенаправление сетевых портов и модификация сетевого трафика СпПС с учетом ротирования узлов и замены сетевых адрес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ализ функционирования СпПС в виртуальном сегменте сети (выявление характеристик, анализ трафика, декомпилирование код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9486-0915-4ABB-8C45-7F58DDE7E5B7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0760" y="1364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О ОО ПТК Натиск-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95160" y="1292040"/>
            <a:ext cx="8544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 администр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 обеспечения без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 информационно-аналитического порт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О в соста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ивирусные сред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ляторы и декомпиляторы программного ко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A P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а разработк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D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 вирту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768240" y="5856120"/>
            <a:ext cx="852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.20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Исполнитель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рабатывает и согласовывает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остав ОО ПТК «Натиск-2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5B4B-2515-4FE7-9515-99CF313F10CE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43920"/>
            <a:ext cx="8543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администрирова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727200" y="1305000"/>
            <a:ext cx="8424720" cy="4889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CDEE-C4F2-4756-B158-0F703DB54E5F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0760" y="10008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создания и обновления образов,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резервного копиров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04640" y="1273320"/>
          <a:ext cx="9182160" cy="3306600"/>
        </p:xfrm>
        <a:graphic>
          <a:graphicData uri="http://schemas.openxmlformats.org/drawingml/2006/table">
            <a:tbl>
              <a:tblPr/>
              <a:tblGrid>
                <a:gridCol w="5362920"/>
                <a:gridCol w="3819240"/>
              </a:tblGrid>
              <a:tr h="3682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8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образов 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nezilla Ser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локального репозитария пакетов ОП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 внешнем контуре вирту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О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ian – apt-mi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О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69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локальных баз АВС во внешнем контуре вирту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урсы для АВС Касперский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WE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о внутреннем контуре вирту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ение виртуальными компьюте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Mware vCSA Enter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рвное копирование ОС физических и виртуальных ма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am Back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8" name="Объект 2"/>
          <p:cNvSpPr/>
          <p:nvPr/>
        </p:nvSpPr>
        <p:spPr>
          <a:xfrm>
            <a:off x="449280" y="4714920"/>
            <a:ext cx="91375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1.08.2019 Исполнитель разрабатывает перечень программных средств организации системного репозитария, в зависимости от типа ОС и пакетов ОП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1.08.2019 Исполнитель разрабатывает перечень ОПО системы виртуализации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перечень параметров шаблонов виртуальных компьютер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0.11.2019 Исполнитель разрабатывает перечень средств резервного копир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B9C1-7626-47D8-B9BA-0AF2443C464A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9906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защищенного соединения, СПО взаимодействия с ИВС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ведения узлов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53880" y="1347840"/>
          <a:ext cx="9203040" cy="2565360"/>
        </p:xfrm>
        <a:graphic>
          <a:graphicData uri="http://schemas.openxmlformats.org/drawingml/2006/table">
            <a:tbl>
              <a:tblPr/>
              <a:tblGrid>
                <a:gridCol w="4602240"/>
                <a:gridCol w="4600800"/>
              </a:tblGrid>
              <a:tr h="3682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1692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щенное соединение между узлами сетевой инфраструктуры, генерация ключей досту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ризация с использованием средств УЦ, OpenVPN Server + OpenVPN 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ь ключей на USB-токен JaCarta PKI/ГОСТ/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Аладдин JaCarta ГОСТ для Linux + средства У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реестра узлов сети, информация о доступности, мониторинг состояния уз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реализации использу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 AP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азч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2" name="Объект 2"/>
          <p:cNvSpPr/>
          <p:nvPr/>
        </p:nvSpPr>
        <p:spPr>
          <a:xfrm>
            <a:off x="384120" y="4246560"/>
            <a:ext cx="9172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перечень средств для замены портов сервисов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его контура вирту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0.11.2019 Исполнитель разрабатывает перечень параметров мониторинга состояния узлов специальной транспортной инфраструк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20.12.2019 Исполнитель разрабатывает перечень средств создания защищенных соеди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spcBef>
                <a:spcPts val="6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для реализации возможности управления ключами доступа к сегментами виртуальной инфраструктуры Исполнитель предлагает использовать средства УЦ                                                            (выбор осуществляется на этапе ЭТ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FEBB-2C8A-4026-A5BC-4E52945DA066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0760" y="1364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обмена электронной почтой,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мгновенного обмена сообщениям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1120" y="1574640"/>
          <a:ext cx="8543880" cy="1981440"/>
        </p:xfrm>
        <a:graphic>
          <a:graphicData uri="http://schemas.openxmlformats.org/drawingml/2006/table">
            <a:tbl>
              <a:tblPr/>
              <a:tblGrid>
                <a:gridCol w="4271760"/>
                <a:gridCol w="4272120"/>
              </a:tblGrid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товый серв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товый кли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nderbi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вер обмена сообще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F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ентское при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nite Realtime S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66" name="Объект 2"/>
          <p:cNvSpPr/>
          <p:nvPr/>
        </p:nvSpPr>
        <p:spPr>
          <a:xfrm>
            <a:off x="681120" y="3981600"/>
            <a:ext cx="854388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перечень параметров почтового сервера и параметров очистки почтовых я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для реализации СПО обмена электронной почтой Исполнитель планирует использовать научно-технический задел, полученный в ходе выполнения </a:t>
            </a:r>
            <a:br>
              <a:rPr sz="1800"/>
            </a:b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НИР «Настав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для реализации СПО мгновенного обмена сообщениями Исполнитель планирует использовать научно-технический задел, полученный в ходе выполнения </a:t>
            </a:r>
            <a:br>
              <a:rPr sz="1800"/>
            </a:b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ОКР «Гадалка-М» и ОКР «Галате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0161-81E8-4511-8459-FC8D35B30DEC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0760" y="10008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обеспечения безопасност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787320" y="1287360"/>
            <a:ext cx="8334360" cy="4973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3AB2-8AB8-4BF7-B3DB-6EFB8A539F0F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10:57:35Z</dcterms:created>
  <dc:creator>Александр А. Кащенко</dc:creator>
  <dc:description/>
  <dc:language>en-US</dc:language>
  <cp:lastModifiedBy>XXX</cp:lastModifiedBy>
  <dcterms:modified xsi:type="dcterms:W3CDTF">2019-03-04T19:45:42Z</dcterms:modified>
  <cp:revision>279</cp:revision>
  <dc:subject/>
  <dc:title>Предложения по реализации</dc:title>
</cp:coreProperties>
</file>